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1B0A-6C96-4463-AE8B-45B1C277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89A-AB82-43A1-9EA4-86756866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04F40-DC5F-441F-BAED-4D4C7DC9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035EE-3CC2-4C4F-BBE0-D923354D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2C4AF-974A-45A1-9AB7-CAE908F0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C6930-94E1-4520-B1D3-44E25875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EDDFD-3520-4F0D-BB19-E85803CA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719BD-7DE9-42B5-A690-9D035CDB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58304-056B-4C30-AABF-03F1AB8D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14EEC-4A9C-44EF-AF53-02E77F03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BA3A1-9BED-4B5D-A1C3-6D9F70BE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1507D-8D8E-4D88-9877-6361D7C0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F90-A602-4B1C-8C44-E50E5CE7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3D5B0-DFDB-4716-B365-AA9A1891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E03F1-B848-4C5B-B847-514570B6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63A2D-9432-451D-937A-F1FBB7C3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5957A-6B80-4453-BEAC-DD196366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BCCA4-9470-44D4-B9FF-E1DEEC85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92DB1-2F52-49BD-A8F6-3770DF5E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E0197-8CE8-48ED-BF84-B1EFB886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E17A4-3F12-4B3D-834E-5C355594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86C89-BBC3-4F4A-ABB2-4D554656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6D815-B889-4614-AB6E-C8C01529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DCB-F40E-4F37-8E89-08A44F0C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19DB8-600B-4DEC-BFD5-A4B11707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87695-EFE7-4CC6-9934-D633DC2E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6CD80-851E-4D56-8E78-0EE2DAA4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62338-E789-405D-A0E1-4887A11E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9B8B2-B6B2-417F-8A0C-D1C18F39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CEB1C-E914-4DE3-9C32-A85509A0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121C4-F563-41C8-AE80-D4B2D0A3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86B6C-C6FE-4FFE-A67B-00D113E0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2AEF9-6CD3-49B8-A184-4699C30D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02A3F-21D0-48D0-9EB2-B2F92746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0FFB-364C-4BDA-B92B-8E295AE8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3059A-738B-4951-B99C-03D0EE88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B3917-CBE4-4C5A-BD0F-E9748691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DABF8-3CBA-4016-AB09-167F1AD6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49C7F-9AA7-45B0-914E-42E53DDB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36CEA-3095-4022-869C-0F2CE399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E3D6B-4439-4445-9089-BF11A0E5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2E4FF-8427-495B-8465-3DED2F0F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B36DF-6309-4A0D-B702-DA82BEE3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63268-C0A1-4425-85A5-061EB430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75DDC-026F-44EE-847E-A38A65F9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A574-C754-4CF8-9C5D-97B4DF55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0BB9A-3BE6-4222-8600-4F143FAE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44797-0751-413D-895A-20E0B693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2B3A9-175D-4A9C-8777-496306B6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71F9F-6DF6-45CA-9B3E-B03EB6AF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FDDB2-1755-4981-B9B1-DF075E54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AA0CA-B767-4054-9294-29E5EFF0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19113-589D-4CD8-AD52-A640128D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89D60-67B2-49FF-92FB-DBCE4BD7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AD872-24FA-4FEA-82B0-D86CAB57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69CDD-741C-4416-A359-4F2E0571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1BE2-43DE-426D-BC8C-B50F6C08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6E3CA-0913-4684-B09C-8836F75E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BFB141-707F-4BE9-A914-D83B592A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BBC69-3889-4129-9BCE-F8664DB1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7C81F-F70C-4D65-8248-EE8E851F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91F5E-E297-47A8-ADB2-9FD1063E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CE345-F622-4B3C-87FD-4D78B5CD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3C7C3-A6C2-41DF-9AD1-1256431E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C9830-121F-4C13-9BBD-03CCB2BC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B46590-5B6A-4B16-918B-64406BD5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8D1885-E53D-472D-AFE4-522D1A6D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B2DF-690A-409B-B64B-92596069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D1C5B-4FCA-4779-8E76-8CD4CF3B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FB615-2A15-4620-83CA-A58185DA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5C70BC-1B2C-4153-97AE-3134F085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82F1C-8566-4ED2-B2B8-8BB847C8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7014B9-4430-418D-9AFD-808100C3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149932-76EA-404A-AA9D-720A631B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8A3A90-F66B-4DEB-8F2D-4D3E9591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60AEC-916C-49DD-BABE-CDC1B43C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0EB19-EC8C-4FAD-BD49-A36AFF4F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45EB41-3FF8-4F2E-ABD3-C93B3AD9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2A05-065B-4A63-8069-A0D3194F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549701-A760-4B83-9390-3FF37582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60BF09-FCBF-4E73-9DEA-0D6B4851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7416F-9137-417C-A949-36F28778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099E2D-A5C2-45A6-9228-1B969CF0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AC5861-42A4-4820-BFB1-3286E501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AD4B87-1B55-4E83-8E90-36C97965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140E0F-C80E-45F7-AE8A-8EEEA044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62402E-8134-4666-B353-4B1D2EFB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B9F4F-98D8-4C4A-B8F2-7C923CDB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8881E4-90CD-4511-967D-759A9EFB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DDF4-D6CE-4067-94FD-3B28B7CF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234BBB-78D6-4DFB-A2A9-043BC4A5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E8E0B3-C9E0-4419-9C0A-89EBE6CE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D281F9-7F03-4E37-8E50-4B1105F1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4F18C4-A362-4562-875B-6F70D1CB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7DF5C6-1EEB-4FFA-8A00-5F8F3700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FABCD1-9CF9-417C-87D6-7216D6E8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F2BE87-BAFA-421E-8B42-56A61642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860E66-C0F8-479A-89D1-7659A643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9807A8-AC46-44D6-A55D-F2B17251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695EFA-298A-49C9-A8C0-4148E7FD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D50A-460C-4E50-B9D0-78C91FB9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A8A4B4-5F22-4271-816E-251985CC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1C4B0D-641B-4EB4-8D6E-ED307128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3EF984-0D46-461C-9A6F-67D0FD53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1E5-4FC5-446F-AAA3-01194DA3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DE0B-7BA5-4482-96C5-2876B582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7312-517F-4D45-9770-A77B16B4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85BC-DA3D-4E31-AE51-30FFE1C5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8680-09B7-4B37-BFE4-BA097211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02B6-E487-4A6B-BC8D-D90DDD71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5E94-87FB-4D80-9EEE-E94DFAFE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BB3C8-6241-4E16-8B5E-228883FA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DC4E9-42A6-4F39-802F-A7203375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DCC39-7044-4847-A1F4-F1DAD47B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D4F5D-E91A-4FFC-9AA5-3C7D4031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B19-FFFB-425D-AF7E-5F95823F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CA0B0-02F7-4CD7-8727-8990406B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53B83-09DE-4442-998D-57E26D31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A7A77-56EC-4F58-96B8-A201C309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612AC-B6EE-416F-836C-38ECA0DC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19CAC-7F23-48A1-B992-38F33AB9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AC50-A05F-4910-BC05-00FD7125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3D2EB-1E67-4B5D-9C77-C6F54F6F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1253B-F211-4710-A1D2-177C1729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29E82-9624-4F8A-80F8-B2A6D9C9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EF41B-4D68-4569-886A-54BA2761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45D-198C-4F7A-AA1E-0939912E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A5F0C-FB7B-4D03-8A7B-EC00A139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ABF9E-3C06-40A0-9A45-B645E205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12EEA-0471-4567-8160-F77D9E04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F498E-A983-4ED8-B1EE-B2D4FC5B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6BF56-A1EF-42B2-90EF-3873FB43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FF3B5-6234-4C3B-AFF3-23A1C959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4A24B-3F3D-42A2-A75E-50DCFE9F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8ED4B-DC7E-46B3-88FB-278A1CC6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430CA-3538-4F55-9A7F-DF81FE30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EE2D1-DD9F-4091-BC12-50DA485B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010-FDA7-4059-8E03-425694B5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3DAC0-81A1-4331-9425-BF3CC3F3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719F0-734B-4C5E-AE57-DF746935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582FB-C7AD-4AD6-AD79-29C491A3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780F4-120A-4B5D-864E-F2116197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C3A29-5F2F-4565-BAEF-B86074EA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0AA4C-0853-4729-A75E-D49C050B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44C50-9573-4B9D-AEE8-0ECCB5E0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B8F2B-AE7E-43D0-AD7F-431A1309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0A8DA-3784-46F6-81AB-C80EEA66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8303D-29A6-4316-AB07-1AE9CDD7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BDC-02EB-4713-A2FE-51247FA0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E8577-41AD-4CFB-B539-D29672B5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8A823-F683-4CA0-872A-AC9A454B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FDCF6-1BBF-4C3E-97A3-55FA4E5E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D3D77-1CC3-4CFF-8531-E4274BF1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23D0B-1E02-4706-9618-850A8363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9DADC-6802-421A-B83D-10ED4310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18C66-8ECB-462F-B774-8AF2CD32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8D483-F9ED-48A6-AD37-D065C3BE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1FE20-53EB-4D69-8E03-D935FD8B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C26B5-358C-4F36-9803-270A217D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A916-BBCB-4701-B9A4-50869574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CF31A-A520-4E88-B944-8455D537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E0ADA-ABE0-442C-B07F-417C3351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9A9CD-4D6C-464A-81BB-6CE89805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C2BAC-32D5-4C22-B916-A9132470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F41DC-64BD-4158-ADA1-58674528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C1A61-B0FB-4BC8-91C3-15EDC72F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C13EE-126F-4416-9B94-342CEE71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F86BE-1923-4353-837C-3B76DF20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686F8-2395-4D09-AA6E-C2061645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CF898-819F-47EB-9DC5-FF697FF2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BB1D-3A7E-4DDF-9DBF-FD2F5F5D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8FC91-33F3-43E1-835D-BB56FF02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AB1BB-9DD9-4259-9438-DCE36DDD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A6974-56AD-4208-86EF-67F58488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2F561-F802-4168-8CC0-FF6994E3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21859-C3FF-4EB0-AF2B-FBC787CF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53DFF-E8EC-424B-89F1-4DCC3E56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779B1-8728-448F-91B0-5B5E95E7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A9F82-810B-47C9-BBD0-29E351C7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AB6EA-11F0-4C9E-A2E3-0A4F9222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F677F-6876-4509-92F8-65132862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CE5-16D0-44C5-8503-C59F168F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F7ED2-9FD1-4F6F-8D75-EE1F3F74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ACEDB-C864-4DF8-81C3-11C2DE34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A0B3F-3D05-4D18-B4B1-8ED5A3A7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E8291-40BD-4CE2-9D7B-9E310489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B4E85-883F-4110-883A-09A6997E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425F4-BB9A-4FF8-8254-C6989B0C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51F7E-1EB1-48B7-9445-9641BCD0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1BEF9-DBD1-42C1-9358-45FFD0DE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E214B-5476-4D5C-A127-A08B2FB1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7DFC2-3BFC-4B4E-88D7-A0704A1E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5314-E8D1-449E-9D42-E58D1227AE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9D43-32CA-4EF8-887B-31B4F57EA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9C9F-A6F4-4BAC-9454-5CC6C16D4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BF7F-DE31-4AA0-B785-F29B0CB22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466D-4282-4E55-BC07-436FA8F4D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D1D4-0C84-484A-A077-3B4A08094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DC31-ED71-4C48-8515-F1133CAB4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CBA8-5530-4015-86E8-F691DBD1F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24E6-F32E-4666-B4BA-8F4CA1599E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7F1F-D39B-4785-A9DE-6F6ACADD0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0"/>
          </p:nvPr>
        </p:nvSpPr>
        <p:spPr>
          <a:xfrm>
            <a:off x="324000" y="54446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12"/>
          </p:nvPr>
        </p:nvSpPr>
        <p:spPr>
          <a:xfrm>
            <a:off x="57240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CD5A-D26B-4891-9BDC-23E6A3E0463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3"/>
          </p:nvPr>
        </p:nvSpPr>
        <p:spPr>
          <a:xfrm>
            <a:off x="324000" y="54446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5"/>
          </p:nvPr>
        </p:nvSpPr>
        <p:spPr>
          <a:xfrm>
            <a:off x="57240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4A38-F13D-42FD-8E42-0107A5FD6E8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BBF7-C598-4E85-B904-EFAE2E17B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F8D0-1574-40F9-AA2F-79C77CDCF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8239-17E7-4810-9560-72FA20CE0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043C-BDB8-40AF-87D1-A75ED9247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矩形 10" descr=""/>
          <p:cNvPicPr/>
          <p:nvPr/>
        </p:nvPicPr>
        <p:blipFill>
          <a:blip r:embed="rId1"/>
          <a:stretch/>
        </p:blipFill>
        <p:spPr>
          <a:xfrm>
            <a:off x="1390680" y="2097000"/>
            <a:ext cx="6242040" cy="2822760"/>
          </a:xfrm>
          <a:prstGeom prst="rect">
            <a:avLst/>
          </a:prstGeom>
          <a:ln w="0">
            <a:noFill/>
          </a:ln>
        </p:spPr>
      </p:pic>
      <p:sp>
        <p:nvSpPr>
          <p:cNvPr id="653" name="直接连接符 8"/>
          <p:cNvSpPr/>
          <p:nvPr/>
        </p:nvSpPr>
        <p:spPr>
          <a:xfrm>
            <a:off x="2195640" y="879480"/>
            <a:ext cx="6804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BAN_051"/>
          <p:cNvPicPr/>
          <p:nvPr/>
        </p:nvPicPr>
        <p:blipFill>
          <a:blip r:embed="rId1"/>
          <a:stretch/>
        </p:blipFill>
        <p:spPr>
          <a:xfrm>
            <a:off x="130320" y="130320"/>
            <a:ext cx="3814560" cy="79200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3"/>
          <p:cNvSpPr/>
          <p:nvPr/>
        </p:nvSpPr>
        <p:spPr>
          <a:xfrm>
            <a:off x="-252360" y="115920"/>
            <a:ext cx="399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语法焦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7"/>
          <p:cNvSpPr/>
          <p:nvPr/>
        </p:nvSpPr>
        <p:spPr>
          <a:xfrm>
            <a:off x="415800" y="882720"/>
            <a:ext cx="78249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一）对物品的价格提问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muc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2"/>
          <p:cNvSpPr/>
          <p:nvPr/>
        </p:nvSpPr>
        <p:spPr>
          <a:xfrm>
            <a:off x="250920" y="1484280"/>
            <a:ext cx="8785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The hat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ve dolla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对画线部分提问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o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c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black trousers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ine dolla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对画线部分提问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o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c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se black trouser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7"/>
          <p:cNvSpPr/>
          <p:nvPr/>
        </p:nvSpPr>
        <p:spPr>
          <a:xfrm>
            <a:off x="415800" y="3301920"/>
            <a:ext cx="78249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二）基数词的记忆规则及用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2"/>
          <p:cNvSpPr/>
          <p:nvPr/>
        </p:nvSpPr>
        <p:spPr>
          <a:xfrm>
            <a:off x="351000" y="3862440"/>
            <a:ext cx="87850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数词的记忆规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数字独立成词，要单独记忆。它们分别是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v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gh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el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-1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都是以“个位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teen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构成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tee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te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nte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ete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个位数直接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e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te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fte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ghte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拼写需特殊记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75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"/>
                            </p:stCondLst>
                            <p:childTnLst>
                              <p:par>
                                <p:cTn id="16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75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BAN_051"/>
          <p:cNvPicPr/>
          <p:nvPr/>
        </p:nvPicPr>
        <p:blipFill>
          <a:blip r:embed="rId1"/>
          <a:stretch/>
        </p:blipFill>
        <p:spPr>
          <a:xfrm>
            <a:off x="130320" y="130320"/>
            <a:ext cx="3814560" cy="7920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3"/>
          <p:cNvSpPr/>
          <p:nvPr/>
        </p:nvSpPr>
        <p:spPr>
          <a:xfrm>
            <a:off x="-252360" y="115920"/>
            <a:ext cx="399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语法焦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7"/>
          <p:cNvSpPr/>
          <p:nvPr/>
        </p:nvSpPr>
        <p:spPr>
          <a:xfrm>
            <a:off x="415800" y="907920"/>
            <a:ext cx="78249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二）基数词的记忆规则及用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2"/>
          <p:cNvSpPr/>
          <p:nvPr/>
        </p:nvSpPr>
        <p:spPr>
          <a:xfrm>
            <a:off x="351000" y="1468440"/>
            <a:ext cx="87850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整十位数的基数词由相应的个位数字后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构成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n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e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后直接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构成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en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f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gh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拼写需特殊记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-9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位数的表达是整十位数加个位数，中间加上连字符。如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enty-on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y-tw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nty-eigh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可以写成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undre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或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hundre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一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都不用复数形式。如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hundre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hundre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数词的用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表示年龄，基数词放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rs ol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之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来表示人或物的数量，放在名词之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表示顺序、编号等，放在名词之后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I’m in Class Four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在四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来计算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Two and six is eight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加六等于八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75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17"/>
          <p:cNvSpPr/>
          <p:nvPr/>
        </p:nvSpPr>
        <p:spPr>
          <a:xfrm>
            <a:off x="368280" y="836640"/>
            <a:ext cx="880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汉语意思完成句子，每空一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父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father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苹果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h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篮球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ne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平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班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Ping i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—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于几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?—It’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件红色羊毛衣多少钱？                  八美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the red sweater?   —Eight dolla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Picture 2" descr="BAN_051"/>
          <p:cNvPicPr/>
          <p:nvPr/>
        </p:nvPicPr>
        <p:blipFill>
          <a:blip r:embed="rId1"/>
          <a:stretch/>
        </p:blipFill>
        <p:spPr>
          <a:xfrm>
            <a:off x="130320" y="130320"/>
            <a:ext cx="3814560" cy="7920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3"/>
          <p:cNvSpPr/>
          <p:nvPr/>
        </p:nvSpPr>
        <p:spPr>
          <a:xfrm>
            <a:off x="-252360" y="115920"/>
            <a:ext cx="399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强化训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19"/>
          <p:cNvSpPr/>
          <p:nvPr/>
        </p:nvSpPr>
        <p:spPr>
          <a:xfrm>
            <a:off x="4140360" y="126828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irty-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19"/>
          <p:cNvSpPr/>
          <p:nvPr/>
        </p:nvSpPr>
        <p:spPr>
          <a:xfrm>
            <a:off x="3635280" y="184464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leven         ap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3944880" y="240336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eventeen   basketb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19"/>
          <p:cNvSpPr/>
          <p:nvPr/>
        </p:nvSpPr>
        <p:spPr>
          <a:xfrm>
            <a:off x="4186080" y="2935440"/>
            <a:ext cx="78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      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Rectangle 19"/>
          <p:cNvSpPr/>
          <p:nvPr/>
        </p:nvSpPr>
        <p:spPr>
          <a:xfrm>
            <a:off x="1692360" y="405144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ight  and    four                   twel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19"/>
          <p:cNvSpPr/>
          <p:nvPr/>
        </p:nvSpPr>
        <p:spPr>
          <a:xfrm>
            <a:off x="831960" y="510228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ow      mu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5" descr=""/>
          <p:cNvPicPr/>
          <p:nvPr/>
        </p:nvPicPr>
        <p:blipFill>
          <a:blip r:embed="rId1"/>
          <a:srcRect l="5125" t="5117" r="-760" b="5710"/>
          <a:stretch/>
        </p:blipFill>
        <p:spPr>
          <a:xfrm>
            <a:off x="-108000" y="3284640"/>
            <a:ext cx="9755280" cy="33271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" descr="BAN_051"/>
          <p:cNvPicPr/>
          <p:nvPr/>
        </p:nvPicPr>
        <p:blipFill>
          <a:blip r:embed="rId2"/>
          <a:stretch/>
        </p:blipFill>
        <p:spPr>
          <a:xfrm>
            <a:off x="130320" y="130320"/>
            <a:ext cx="3814560" cy="7920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-252360" y="115920"/>
            <a:ext cx="399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写作指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矩形 1"/>
          <p:cNvSpPr/>
          <p:nvPr/>
        </p:nvSpPr>
        <p:spPr>
          <a:xfrm>
            <a:off x="755640" y="3467160"/>
            <a:ext cx="8240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19"/>
          <p:cNvSpPr/>
          <p:nvPr/>
        </p:nvSpPr>
        <p:spPr>
          <a:xfrm>
            <a:off x="403200" y="895320"/>
            <a:ext cx="84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70c0"/>
                </a:solidFill>
                <a:latin typeface="Calibri"/>
              </a:rPr>
              <a:t>本单元的写作任务是为服装店写广告。写这样的文章时，要注意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1.</a:t>
            </a:r>
            <a:r>
              <a:rPr b="1" lang="zh-CN" sz="2400" spc="-1" strike="noStrike">
                <a:solidFill>
                  <a:srgbClr val="0070c0"/>
                </a:solidFill>
                <a:latin typeface="Calibri"/>
              </a:rPr>
              <a:t>开头写出是哪家商店出售衣服。常用祈使句句式，表示建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2.</a:t>
            </a:r>
            <a:r>
              <a:rPr b="1" lang="zh-CN" sz="2400" spc="-1" strike="noStrike">
                <a:solidFill>
                  <a:srgbClr val="0070c0"/>
                </a:solidFill>
                <a:latin typeface="Calibri"/>
              </a:rPr>
              <a:t>然后介绍服装店的各类衣服。在有表格或图片时，要把所有的物品无一遗漏地作介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3.</a:t>
            </a:r>
            <a:r>
              <a:rPr b="1" lang="zh-CN" sz="2400" spc="-1" strike="noStrike">
                <a:solidFill>
                  <a:srgbClr val="0070c0"/>
                </a:solidFill>
                <a:latin typeface="Calibri"/>
              </a:rPr>
              <a:t>要运用本单元所学习的句型，注意各类不同衣服的名称，并在其后运用恰当的动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19"/>
          <p:cNvSpPr/>
          <p:nvPr/>
        </p:nvSpPr>
        <p:spPr>
          <a:xfrm>
            <a:off x="900000" y="38894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常用句型归纳如下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much is / are…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2" descr="BAN_051"/>
          <p:cNvPicPr/>
          <p:nvPr/>
        </p:nvPicPr>
        <p:blipFill>
          <a:blip r:embed="rId1"/>
          <a:stretch/>
        </p:blipFill>
        <p:spPr>
          <a:xfrm>
            <a:off x="130320" y="130320"/>
            <a:ext cx="3814560" cy="79200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3"/>
          <p:cNvSpPr/>
          <p:nvPr/>
        </p:nvSpPr>
        <p:spPr>
          <a:xfrm>
            <a:off x="-252360" y="115920"/>
            <a:ext cx="399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写作示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 Box 2"/>
          <p:cNvSpPr/>
          <p:nvPr/>
        </p:nvSpPr>
        <p:spPr>
          <a:xfrm>
            <a:off x="274680" y="836640"/>
            <a:ext cx="86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Arial"/>
              </a:rPr>
              <a:t>军翔服装店开业大酬宾，开业第一天所有商品一律优惠，而且第一天光临本店的前五名顾客，还有机会见到歌星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PSY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Arial"/>
              </a:rPr>
              <a:t>。请结合图片为本店写一则广告，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50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Arial"/>
              </a:rPr>
              <a:t>词左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图片 1" descr=""/>
          <p:cNvPicPr/>
          <p:nvPr/>
        </p:nvPicPr>
        <p:blipFill>
          <a:blip r:embed="rId2"/>
          <a:stretch/>
        </p:blipFill>
        <p:spPr>
          <a:xfrm>
            <a:off x="1773360" y="2519280"/>
            <a:ext cx="4809960" cy="3305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BAN_051"/>
          <p:cNvPicPr/>
          <p:nvPr/>
        </p:nvPicPr>
        <p:blipFill>
          <a:blip r:embed="rId1"/>
          <a:stretch/>
        </p:blipFill>
        <p:spPr>
          <a:xfrm>
            <a:off x="130320" y="130320"/>
            <a:ext cx="3814560" cy="79200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3"/>
          <p:cNvSpPr/>
          <p:nvPr/>
        </p:nvSpPr>
        <p:spPr>
          <a:xfrm>
            <a:off x="-252360" y="115920"/>
            <a:ext cx="399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经典示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4"/>
          <p:cNvSpPr/>
          <p:nvPr/>
        </p:nvSpPr>
        <p:spPr>
          <a:xfrm>
            <a:off x="468360" y="853920"/>
            <a:ext cx="84247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Junxiang Clothes Store S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lcome to Junxiang Clothes Store. On the first day all the clothes are on sale. We have lots of sweaters in all colors for only $ 12. For boys</a:t>
            </a:r>
            <a:r>
              <a:rPr b="1" i="1" lang="zh-CN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 have some hats for only $ 3.For girls</a:t>
            </a:r>
            <a:r>
              <a:rPr b="1" i="1" lang="zh-CN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 have socks for only $ 5 each. We have shorts in black. They are $ 8.And we have many shoes for only $ 15.And the first five people at the store on the first day will meet PS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4"/>
          <p:cNvSpPr/>
          <p:nvPr/>
        </p:nvSpPr>
        <p:spPr>
          <a:xfrm>
            <a:off x="376200" y="123984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WordArt 5"/>
          <p:cNvSpPr txBox="1"/>
          <p:nvPr/>
        </p:nvSpPr>
        <p:spPr>
          <a:xfrm>
            <a:off x="1600200" y="871560"/>
            <a:ext cx="6095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3816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Franklin Gothic Medium"/>
              </a:rPr>
              <a:t>Thank you!</a:t>
            </a:r>
            <a:endParaRPr b="1" lang="en-US" sz="4400" spc="1" strike="noStrike">
              <a:ln w="3816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2:36:09Z</dcterms:created>
  <dc:creator>Administrator</dc:creator>
  <dc:description/>
  <dc:language>en-US</dc:language>
  <cp:lastModifiedBy>微软用户</cp:lastModifiedBy>
  <dcterms:modified xsi:type="dcterms:W3CDTF">2015-06-13T09:40:15Z</dcterms:modified>
  <cp:revision>242</cp:revision>
  <dc:subject/>
  <dc:title>PowerPoint 演示文稿</dc:title>
</cp:coreProperties>
</file>